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5C1-05A8-41D9-A5F3-4F7C2B91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74F-4BF7-4BFE-82C3-B1F80E2B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F66-E15C-487E-A1AB-C578617F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3BA-8B69-4DD9-87A6-4FBBE502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818-D59F-42BE-BE18-4024C205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F61-3031-4A1F-9CE4-49167FF7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FE5-19AF-444E-B9F3-3E4B31E4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CB1-655D-4B57-B51F-810217F4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41B-FD3A-4043-95A6-5814035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89D-B0BD-4D67-923A-C9112E35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452-46EC-497F-9809-B736E30F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B74-D27E-45CE-9B3F-37C7279F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4241-7D1E-4367-8040-7D2E16B42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4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repasamos para la prueba de Gramá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 una oración con cada verb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-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¿Donde viv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Cuando regresan a casa, ¿ven la televis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¿Qué aprendes en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 ¿Reciben muchos correos electrón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¿Lees y escribes muc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-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éctor y Luis _________ bocadillos. (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tedes, ¿___________ y __________ mucho? (beber, 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sera __________ la orden de los clientes. (escr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 el menú en español. (l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uisa y yo ___________ algebra. (apr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_ a una escuela publica. (asist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sa y Josefina _____________ muchos correos electrónicos. (rec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guel no _____________ la geometría. (compr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- Expresiones con el infini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e no vas a tomar el exa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e van a ir al caf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e no van a com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e tienen que estud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. Copy and complete each sen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__ a escrib____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____ de beb_____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a _________ a recib_____ una buena no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a para la Prueba de mañ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p. 136-1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86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47:14Z</dcterms:created>
  <dc:creator>Helen Zumaeta</dc:creator>
  <dc:description/>
  <dc:language>en-US</dc:language>
  <cp:lastModifiedBy>Helen Zumaeta</cp:lastModifiedBy>
  <dcterms:modified xsi:type="dcterms:W3CDTF">2011-04-04T14:11:53Z</dcterms:modified>
  <cp:revision>3</cp:revision>
  <dc:subject/>
  <dc:title>Me llamo ________ Clase 9N La fecha es el 4 de abril del 2011</dc:title>
</cp:coreProperties>
</file>